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07AE-5D51-4A63-9788-F90D4D5D2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781C-E63C-4737-8A36-C99D717C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A547-93D7-49C2-B79F-F7CB2971A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D782-3D03-4765-A081-1E3706162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B18F-F593-495F-A995-9226C04FC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BC74-B4E1-4163-9ED5-5E34027C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E688-9457-4842-9D3A-010CB9FC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E4D6-DEFF-47B8-810A-ACC93001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5909-2350-494A-BEBF-80F468FD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FB66-6859-43B2-A307-48071F49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0FEF-05DB-4BEF-A8AE-873B5FF1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3268-638D-403F-AF06-6DCC18B7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D89B-F52B-4445-BF24-C93BC950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A9F2-36B5-496D-8007-52875D81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C1BC-7A33-4DDB-A6BF-957B6EF5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3BA3-1E28-4F60-A6F2-73D956B0E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CD2C-CB80-4603-843B-DD5123BB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6EC29-B041-4338-BDF5-F31C53B32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1F3B4-F17D-4FE1-A7D9-023A43B8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3CEBD-EFC8-4F1F-91CD-87DD7F13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12312-10B5-41AF-9F82-A17ABE19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D9ACD-0757-4834-BBB1-D4A866D1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986E-C191-44EC-BD2E-C5F650AD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260A1-252B-4A26-AD8F-327D5EC1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E8DE8-3B5A-4DAD-9D80-0D9C699D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0C800-0AC5-4CB2-A085-8DD0FEDD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925B7-A844-4FE8-A791-8008F358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3FE06-EC95-4793-9B79-48824898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FEEBE-5923-48CB-9CFE-E83195DAE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FCF6A-8196-4875-AEBA-43B7B1BC4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E31DE-35AA-40C6-BB66-21C0F1ECA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1E922-F782-4B21-B1D8-9A213BB8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F5B77-507F-4A09-9224-B5965BC0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B394-3EE5-40AC-A663-72EE2076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E5FBD-0725-40A2-AFE9-8F7B4D56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0E0FE-1793-45F0-AEF4-E323758D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2C046-466A-44B8-8533-C9F5AFFA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B8334-E747-4DCB-BB18-98B09B91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72C1A-6EEA-4CC4-B414-605C4F09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7E2CB-DB5E-44F1-8E6A-A812B2AD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728DC-8F54-4A6B-A31D-9273C758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A729E-46C0-4896-BE79-1D165B82A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4F4BA-A78F-4E0C-BA57-7E89D25F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7D12A-FF21-48F9-B9E3-D317CBF0D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403D-1F47-47FC-92E1-3046755B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0C4F5-FE16-4259-9670-7C661779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FEDB5-885E-452D-A4A9-B4D003B6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4F4E7-B6AA-4F90-9219-7BD0803B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EA007-15BE-480F-B25C-62136B08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2B0C5-DABA-4AF2-83EF-99129EFA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FFFDF-7B30-4A02-8059-726E43A3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75D59-B010-4A04-B7A3-4DFD8956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10A53-B5A1-4B98-B0B6-C5379B2E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8BC25-50CA-4260-99C5-6F52155B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0069D-4C8B-4D26-9B50-B90AC9BA3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7626-7C00-4A3A-A582-0D9C6E75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E4311-52B6-4A75-95B4-7967082CA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0CE0-0BC8-4E4D-82EA-7FA1050D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CE42-4B35-4C62-B91B-8CF775C7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4367-88F0-46F7-AC3C-594AF989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E309-FDB2-4841-8F80-7D53E0CDA86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A248-4D9D-4661-A247-29EFFD734F5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B1CB-9367-4515-84A3-0E9EC7194BB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2B35-A576-4810-844B-00E5DFC283E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C02E-F764-4F56-8508-477E233D6FA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hyperlink" Target="http://mofa.gov.gh/site" TargetMode="External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3"/>
          <p:cNvSpPr/>
          <p:nvPr/>
        </p:nvSpPr>
        <p:spPr>
          <a:xfrm>
            <a:off x="0" y="152280"/>
            <a:ext cx="914400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Sustainable Intensification of Key Farming Systems in the Sudano-Sahelian Zone of West Africa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N. Karbo, F. K. Avornyo, H. K. Dei, B. Alenyorege, E. Osafo, S. Konlan, A. Fal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CSIR-ARI, UDS, ILR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2514600" y="304920"/>
            <a:ext cx="1523880" cy="1218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C:\Documents and Settings\CSIR\Local Settings\Temp\Rar$DI00.406\4221308719_7e861369dc.jpg"/>
          <p:cNvPicPr/>
          <p:nvPr/>
        </p:nvPicPr>
        <p:blipFill>
          <a:blip r:embed="rId2"/>
          <a:stretch/>
        </p:blipFill>
        <p:spPr>
          <a:xfrm>
            <a:off x="685800" y="685800"/>
            <a:ext cx="863640" cy="8874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6719132809_d02a581715_b.jpg"/>
          <p:cNvPicPr/>
          <p:nvPr/>
        </p:nvPicPr>
        <p:blipFill>
          <a:blip r:embed="rId3"/>
          <a:stretch/>
        </p:blipFill>
        <p:spPr>
          <a:xfrm>
            <a:off x="7162920" y="380880"/>
            <a:ext cx="971280" cy="10414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University for Development Studies logo - All Ghana Data"/>
          <p:cNvPicPr/>
          <p:nvPr/>
        </p:nvPicPr>
        <p:blipFill>
          <a:blip r:embed="rId4"/>
          <a:stretch/>
        </p:blipFill>
        <p:spPr>
          <a:xfrm>
            <a:off x="5181480" y="457200"/>
            <a:ext cx="1067040" cy="961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http://www.knust.edu.gh/images/content/pics/img27052010_135229.gif"/>
          <p:cNvPicPr/>
          <p:nvPr/>
        </p:nvPicPr>
        <p:blipFill>
          <a:blip r:embed="rId5"/>
          <a:stretch/>
        </p:blipFill>
        <p:spPr>
          <a:xfrm>
            <a:off x="228600" y="5410080"/>
            <a:ext cx="4572000" cy="9144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Republic of Ghana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876920" y="5486400"/>
            <a:ext cx="41148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228600" y="685800"/>
            <a:ext cx="86868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Capacity building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erpetua"/>
              </a:rPr>
              <a:t>Training of implementer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Improvement in understanding of crop-livestock system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Benefited from biometry training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erpetua"/>
              </a:rPr>
              <a:t>Training of farmer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Sensitization on protoco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Demonstration on feed formulati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"/>
          <p:cNvSpPr/>
          <p:nvPr/>
        </p:nvSpPr>
        <p:spPr>
          <a:xfrm>
            <a:off x="228600" y="1066680"/>
            <a:ext cx="85345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erpetua"/>
              </a:rPr>
              <a:t>Training of student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Demonstration on feed formulati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Data collecti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Crop-livestock system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rotoco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1"/>
          <p:cNvSpPr/>
          <p:nvPr/>
        </p:nvSpPr>
        <p:spPr>
          <a:xfrm>
            <a:off x="228600" y="838080"/>
            <a:ext cx="853452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Dissemination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Farmer field visits (75 men and 42 women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Feed millers’ visit to project sit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Community experience-sharing and learning (120 participants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osters distributed (3,000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1"/>
          <p:cNvSpPr/>
          <p:nvPr/>
        </p:nvSpPr>
        <p:spPr>
          <a:xfrm>
            <a:off x="228600" y="609480"/>
            <a:ext cx="8686800" cy="67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Challenge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Harmonization gaps of the protocols due to limited  information on socio-cultural setting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Time and area to cover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Managing in the absence of a project vehicl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Support needed by farmers for technology/innovation uptak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How to sustain the process/interventions – farmers are wondering if we will come back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1"/>
          <p:cNvSpPr/>
          <p:nvPr/>
        </p:nvSpPr>
        <p:spPr>
          <a:xfrm>
            <a:off x="228600" y="1219320"/>
            <a:ext cx="84582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Lesson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Team work contributed greatly to the achievement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Regional teams required monitoring due to peculiarity of data collection - without which project might have failed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1"/>
          <p:cNvSpPr/>
          <p:nvPr/>
        </p:nvSpPr>
        <p:spPr>
          <a:xfrm>
            <a:off x="228600" y="762120"/>
            <a:ext cx="853452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Element of long term relationship, commitment and trust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Wet season intervention is justified particularly for restrained animal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Land is an issue for intensification  - In UER where crops are failing diversifying into livestock production for integration with crops can improve livelihood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228600" y="533520"/>
            <a:ext cx="876312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Opportunitie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Community members are more receptive and are organizing themselves into group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Some feed formulations were promising and this provides an opportunity for scaling up – development of feed marke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New partnerships formed present an opportunity for future collaborations (internal and external partners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1"/>
          <p:cNvSpPr/>
          <p:nvPr/>
        </p:nvSpPr>
        <p:spPr>
          <a:xfrm>
            <a:off x="228600" y="1143000"/>
            <a:ext cx="8686800" cy="43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resence of milk groups presents an opportunity for the development of the dairy sector in northern Ghana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Availability of synthesized knowledge for uptake – proceedings, report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Working as a consortium for future project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609480" y="685800"/>
            <a:ext cx="7620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Perpetua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1"/>
          <p:cNvSpPr/>
          <p:nvPr/>
        </p:nvSpPr>
        <p:spPr>
          <a:xfrm>
            <a:off x="0" y="762120"/>
            <a:ext cx="914400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Perpetua"/>
              </a:rPr>
              <a:t>ACTIVITIES/OUTPUT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Perpetua"/>
              </a:rPr>
              <a:t>Planning meeting and team formation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Core team for coordinati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Regional teams for coordinati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Committee on planning for Regional workshop, training cours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Areas for protocol development identified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6"/>
          <p:cNvSpPr/>
          <p:nvPr/>
        </p:nvSpPr>
        <p:spPr>
          <a:xfrm>
            <a:off x="228600" y="228600"/>
            <a:ext cx="8686800" cy="66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Regional workshop on constraints and opportunities for intensification of integrated crop-livestock system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roceeding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Technologies tested/generated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Perpetua"/>
              </a:rPr>
              <a:t>On-station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False yam for guinea fowls (8 feed formulations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False yam fro pigs (9 feed formulations out of which two were promising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C:\Users\DELPHE\Pictures\23-09-2012\DSC00556.JPG"/>
          <p:cNvPicPr/>
          <p:nvPr/>
        </p:nvPicPr>
        <p:blipFill>
          <a:blip r:embed="rId1"/>
          <a:stretch/>
        </p:blipFill>
        <p:spPr>
          <a:xfrm>
            <a:off x="152280" y="228600"/>
            <a:ext cx="88394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152280" y="152280"/>
            <a:ext cx="8839440" cy="67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Perpetua"/>
              </a:rPr>
              <a:t>On-farm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Feed supplementation under wet season management of small ruminants – 1 promising feed formulati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Sorghum spent malt for guinea fowls (cheaper feed formulation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erpetua"/>
              </a:rPr>
              <a:t>Best-bet technologies in milk hygiene and processing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Appropriate pasteurization equipmen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osters on milk hygiene, milk platform, salt wagashi, good wagashi, quesco blanco cheese and yoghur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DSC05820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" descr="C:\Users\DELPHE\Pictures\23-09-2012\DSC00570.JPG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" descr="Figure 1"/>
          <p:cNvPicPr/>
          <p:nvPr/>
        </p:nvPicPr>
        <p:blipFill>
          <a:blip r:embed="rId1"/>
          <a:stretch/>
        </p:blipFill>
        <p:spPr>
          <a:xfrm>
            <a:off x="304920" y="457200"/>
            <a:ext cx="83818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1" descr="wagashibrine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22:14:50Z</dcterms:created>
  <dc:creator>Hp</dc:creator>
  <dc:description/>
  <dc:language>en-US</dc:language>
  <cp:lastModifiedBy>LeBorgne, Ewen (ILRI)</cp:lastModifiedBy>
  <dcterms:modified xsi:type="dcterms:W3CDTF">2012-10-24T12:28:10Z</dcterms:modified>
  <cp:revision>118</cp:revision>
  <dc:subject/>
  <dc:title>Slide 1</dc:title>
</cp:coreProperties>
</file>